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1F3A-6B10-4C1D-8672-C2A9999FA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size, scope and quality requirements of Perkins IV, I recommend the following.  We all need to have the same answer if someone asks what they are.  This is the ideal that programs should work towards.  Obviously, not all programs will have all of the quality items but it should be the goal to work towards the majority of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nd Scope</a:t>
            </a:r>
            <a:r>
              <a:rPr b="0" lang="en-US" sz="1200" spc="-1" strike="noStrike">
                <a:solidFill>
                  <a:srgbClr val="000000"/>
                </a:solidFill>
                <a:latin typeface="Arial"/>
              </a:rPr>
              <a:t>:  Program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redits offer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courses are in the programs'  sequence of cour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r>
              <a:rPr b="0" lang="en-US" sz="1200" spc="-1" strike="noStrike">
                <a:solidFill>
                  <a:srgbClr val="000000"/>
                </a:solidFill>
                <a:latin typeface="Arial"/>
              </a:rPr>
              <a:t>:  PIP &amp; course syllabi submitted to OCT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standards aligned with career clusters core standar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based learning included in cours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syllabi with integrated academic and technical knowledge and skill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ased experience (job shadow, internship, etc.)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of  technolog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ssess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recognized certificate, license, credential, if availab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to postsecondary alignment, including dual credit/enrollment and/or articula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equipm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chool’s inventory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cedure separate Perkins-purchased items from oth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Perkins-purchased items tracked?  Are they tag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equipment located where it is suppo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cedure is used to dispose of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 needs to facilitate disposition of any equipment funded with Perk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648320" cy="3486240"/>
          </a:xfrm>
          <a:prstGeom prst="rect">
            <a:avLst/>
          </a:prstGeom>
          <a:ln w="0">
            <a:noFill/>
          </a:ln>
        </p:spPr>
      </p:sp>
      <p:sp>
        <p:nvSpPr>
          <p:cNvPr id="227" name="PlaceHolder 2"/>
          <p:cNvSpPr>
            <a:spLocks noGrp="1"/>
          </p:cNvSpPr>
          <p:nvPr>
            <p:ph type="body"/>
          </p:nvPr>
        </p:nvSpPr>
        <p:spPr>
          <a:xfrm>
            <a:off x="151920" y="4416120"/>
            <a:ext cx="670572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introductions</a:t>
            </a:r>
            <a:r>
              <a:rPr b="0" lang="en-US" sz="1000" spc="-1" strike="noStrike">
                <a:solidFill>
                  <a:srgbClr val="000000"/>
                </a:solidFill>
                <a:latin typeface="Arial"/>
              </a:rPr>
              <a:t> with cluster assignments and brief review of committee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 of committees</a:t>
            </a:r>
            <a:r>
              <a:rPr b="0" lang="en-US" sz="1000" spc="-1" strike="noStrike">
                <a:solidFill>
                  <a:srgbClr val="000000"/>
                </a:solidFill>
                <a:latin typeface="Arial"/>
              </a:rPr>
              <a:t>: Sequence of courses with “core” standards, Units of instruction developed with U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of course types</a:t>
            </a:r>
            <a:r>
              <a:rPr b="0" lang="en-US" sz="1000" spc="-1" strike="noStrike">
                <a:solidFill>
                  <a:srgbClr val="000000"/>
                </a:solidFill>
                <a:latin typeface="Arial"/>
              </a:rPr>
              <a:t>: foundational, cluster-specific, pathway-specific and aca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line for implementation of programs of study</a:t>
            </a:r>
            <a:r>
              <a:rPr b="0" lang="en-US" sz="1000" spc="-1" strike="noStrike">
                <a:solidFill>
                  <a:srgbClr val="000000"/>
                </a:solidFill>
                <a:latin typeface="Arial"/>
              </a:rPr>
              <a:t> with “core” standards cour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8 – incorporate “core” standards into all courses tau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9 – full implementation of sequence of courses and teaching core standards for all cla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will provide training and grant money to implement career clusters (Reserve funds RF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E is developing a marketing plan to get information on clusters to administrators and guidance counse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are we here? Requirements for Perkins IV accountability, CAR report, enrollment, Stand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kins IV – New goals and foc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nstrument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mprovement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a technical assistance review? New programs, new teach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chosen for on-site review and why? High Risk - Programs that have not met the Core Indicators for the past two – three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ountability for the state and the local recipients of Perkins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 Instrument – Based on best practices for program improvement: Students Engaged, Rigorous Coursework, CTE teachers working cooperatively, Programs of Study, Student Career Guidance Plans, Equipment and Facilities; Program Improvement and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648320" cy="3486240"/>
          </a:xfrm>
          <a:prstGeom prst="rect">
            <a:avLst/>
          </a:prstGeom>
          <a:ln w="0">
            <a:noFill/>
          </a:ln>
        </p:spPr>
      </p:sp>
      <p:sp>
        <p:nvSpPr>
          <p:cNvPr id="221" name="PlaceHolder 2"/>
          <p:cNvSpPr>
            <a:spLocks noGrp="1"/>
          </p:cNvSpPr>
          <p:nvPr>
            <p:ph type="body"/>
          </p:nvPr>
        </p:nvSpPr>
        <p:spPr>
          <a:xfrm>
            <a:off x="151920" y="4416120"/>
            <a:ext cx="670572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introductions</a:t>
            </a:r>
            <a:r>
              <a:rPr b="0" lang="en-US" sz="1000" spc="-1" strike="noStrike">
                <a:solidFill>
                  <a:srgbClr val="000000"/>
                </a:solidFill>
                <a:latin typeface="Arial"/>
              </a:rPr>
              <a:t> with cluster assignments and brief review of committee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 of committees</a:t>
            </a:r>
            <a:r>
              <a:rPr b="0" lang="en-US" sz="1000" spc="-1" strike="noStrike">
                <a:solidFill>
                  <a:srgbClr val="000000"/>
                </a:solidFill>
                <a:latin typeface="Arial"/>
              </a:rPr>
              <a:t>: Sequence of courses with “core” standards, Units of instruction developed with U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of course types</a:t>
            </a:r>
            <a:r>
              <a:rPr b="0" lang="en-US" sz="1000" spc="-1" strike="noStrike">
                <a:solidFill>
                  <a:srgbClr val="000000"/>
                </a:solidFill>
                <a:latin typeface="Arial"/>
              </a:rPr>
              <a:t>: foundational, cluster-specific, pathway-specific and aca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line for implementation of programs of study</a:t>
            </a:r>
            <a:r>
              <a:rPr b="0" lang="en-US" sz="1000" spc="-1" strike="noStrike">
                <a:solidFill>
                  <a:srgbClr val="000000"/>
                </a:solidFill>
                <a:latin typeface="Arial"/>
              </a:rPr>
              <a:t> with “core” standards cour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8 – incorporate “core” standards into all courses tau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9 – full implementation of sequence of courses and teaching core standards for all cla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will provide training and grant money to implement career clusters (Reserve funds RF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E is developing a marketing plan to get information on clusters to administrators and guidance counse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are we here? Requirements for Perkins IV accountability, CAR report, enrollment, Stand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kins IV – New goals and foc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nstrument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mprovement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a technical assistance review? New programs, new teach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chosen for on-site review and why? High Risk - Programs that have not met the Core Indicators for the past two – three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ountability for the state and the local recipients of Perkins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 Instrument – Based on best practices for program improvement: Students Engaged, Rigorous Coursework, CTE teachers working cooperatively, Programs of Study, Student Career Guidance Plans, Equipment and Facilities; Program Improvement and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D03E-F25D-4ED4-B07E-C6ACC914B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69EE-061F-4019-B71E-2419BE28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42AF-4680-4B18-81BF-8654138B5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17D4-52D6-41C7-B3E4-3EBB99D8E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B9641-CC94-4598-ACCD-7EF897FBB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E0AA-A0C2-4E59-88F3-DDFE93B16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2FAAD-1AC9-44BA-9398-291C97E8F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D4FC4-7A98-46A6-8DF1-32DC7ED62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ACA0C-B5E8-4C1D-8C2B-CC3524A17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08129-D6D0-4AFB-A2C4-5B4006257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3F9D-77B3-4D94-AC29-765C29AA3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0742-066A-4BFD-BFF4-D0416D268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1932C-5E4A-4C53-85FD-5831E586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A9FAC-5546-4A7D-83CE-9F2351F9E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2E3C2-1421-434C-85A2-AAF823143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C2D4A-FFF2-4FB6-A927-A9A944B265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45FD4-A029-4CD5-A969-8973853C0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3282-A4B7-4CA3-B09B-5DEDCD45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FA6C-D37B-4D84-A414-5C6FF8E9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F3482-3B31-4DCB-AB27-8774AB79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D2D8F-FB02-4B4F-A240-BD665687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9F4A-6A20-48D1-8893-59CDCCBA3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3AC8-52D1-4120-B4E0-A6496B92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FD39-8A59-4F03-91CA-00105EA23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5540-84EB-4D5A-AFC9-275CD26826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FB37-2EAD-4B27-8501-436415825E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doe.sd.gov/octe/dat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oe.sd.gov/"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437920"/>
            <a:ext cx="8686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Program Improvement Process </a:t>
            </a:r>
            <a:endParaRPr b="1" lang="en-US" sz="30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
          <p:cNvSpPr/>
          <p:nvPr/>
        </p:nvSpPr>
        <p:spPr>
          <a:xfrm>
            <a:off x="3584160" y="3276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2010</a:t>
            </a:r>
            <a:endParaRPr b="0" lang="en-US" sz="1800" spc="-1" strike="noStrike">
              <a:solidFill>
                <a:srgbClr val="000000"/>
              </a:solidFill>
              <a:latin typeface="Arial"/>
            </a:endParaRPr>
          </a:p>
        </p:txBody>
      </p:sp>
      <p:sp>
        <p:nvSpPr>
          <p:cNvPr id="158" name=""/>
          <p:cNvSpPr/>
          <p:nvPr/>
        </p:nvSpPr>
        <p:spPr>
          <a:xfrm>
            <a:off x="228600" y="624852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Curriculum, Career &amp; Technical Education</a:t>
            </a:r>
            <a:endParaRPr b="0" lang="en-US" sz="1400" spc="-1" strike="noStrike">
              <a:solidFill>
                <a:srgbClr val="000000"/>
              </a:solidFill>
              <a:latin typeface="Arial"/>
            </a:endParaRPr>
          </a:p>
        </p:txBody>
      </p:sp>
      <p:graphicFrame>
        <p:nvGraphicFramePr>
          <p:cNvPr id="159" name=""/>
          <p:cNvGraphicFramePr/>
          <p:nvPr/>
        </p:nvGraphicFramePr>
        <p:xfrm>
          <a:off x="228600" y="5638680"/>
          <a:ext cx="2286000" cy="573120"/>
        </p:xfrm>
        <a:graphic>
          <a:graphicData uri="http://schemas.openxmlformats.org/presentationml/2006/ole">
            <p:oleObj r:id="rId1" spid="">
              <p:embed/>
              <p:pic>
                <p:nvPicPr>
                  <p:cNvPr id="160" name="" descr=""/>
                  <p:cNvPicPr/>
                  <p:nvPr/>
                </p:nvPicPr>
                <p:blipFill>
                  <a:blip r:embed="rId2"/>
                  <a:stretch/>
                </p:blipFill>
                <p:spPr>
                  <a:xfrm>
                    <a:off x="228600" y="5638680"/>
                    <a:ext cx="2286000" cy="573120"/>
                  </a:xfrm>
                  <a:prstGeom prst="rect">
                    <a:avLst/>
                  </a:prstGeom>
                  <a:ln w="0">
                    <a:noFill/>
                  </a:ln>
                </p:spPr>
              </p:pic>
            </p:oleObj>
          </a:graphicData>
        </a:graphic>
      </p:graphicFrame>
      <p:sp>
        <p:nvSpPr>
          <p:cNvPr id="4" name="PlaceHolder 3"/>
          <p:cNvSpPr>
            <a:spLocks noGrp="1"/>
          </p:cNvSpPr>
          <p:nvPr>
            <p:ph type="sldNum" idx="3"/>
          </p:nvPr>
        </p:nvSpPr>
        <p:spPr/>
        <p:txBody>
          <a:bodyPr/>
          <a:p>
            <a:fld id="{16120EBD-CE50-4EED-AAD1-5832C4FA8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ww.doe.sd.gov/octe/data</a:t>
            </a:r>
            <a:r>
              <a:rPr b="0" lang="en-US" sz="3000" spc="-1" strike="noStrike" u="sng">
                <a:solidFill>
                  <a:srgbClr val="000000"/>
                </a:solidFill>
                <a:uFillTx/>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all students were enter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ntrators – students with 2 credits in a program</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foundational credits count towards 2 unit statu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1 unit of Capstone credit counts towards 2 unit statu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academic credit counts towards 2 unit statu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66B3399-CC59-425E-8FE3-1009BA3FE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and Math – scores are from Dakota STEP Tes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iors with 2 credits in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of 604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h score of 715 +</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Skill Attainment (TS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student with 2 credits &amp; TSA average of 75 or abov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Completion &amp; Gradua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late fal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0746BFF-56A4-4E76-A320-DED6FAFE11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ment 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a:t>
            </a:r>
            <a:r>
              <a:rPr b="0" lang="en-US" sz="2600" spc="-1" strike="noStrike" baseline="30000">
                <a:solidFill>
                  <a:srgbClr val="000000"/>
                </a:solidFill>
                <a:latin typeface="Arial"/>
              </a:rPr>
              <a:t>th</a:t>
            </a:r>
            <a:r>
              <a:rPr b="0" lang="en-US" sz="2600" spc="-1" strike="noStrike">
                <a:solidFill>
                  <a:srgbClr val="000000"/>
                </a:solidFill>
                <a:latin typeface="Arial"/>
              </a:rPr>
              <a:t> Graders with 2 credits in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have to be currently enrolled</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Traditional participation and comple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d on national occupations, not program enrollment</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6A7B7AD-F5A5-43C6-8A40-1F631A546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 Now What?</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we do with the data?</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advisory committee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 with administra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core content teacher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 strategies for improvemen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program improvement goal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 budget to help achieve goal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recruiting strategie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rigo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hink course offerings and conten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tilize “Strategies” to develop plan/goals.</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0BBEC4F-FDCD-4A02-92C3-03CA34CC23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nual Budget Requests</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development approved only if tied to cluster committee work and with prior approval by cluster specialist.</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and technology requests based on standar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quests related to program improvement, student achievement, and accountability.</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dments follow the same format as requests.  Contact your Cluster Specialist first then work with your consortium director to add it.</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your consortium director for important information about budget approvals, amendments, and other general budgeting ques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332BDB-A4F5-4FE3-997D-A9CAE4FCD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3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Improvement Process</a:t>
            </a:r>
            <a:endParaRPr b="1" lang="en-US" sz="3500" spc="-1" strike="noStrike">
              <a:solidFill>
                <a:srgbClr val="330066"/>
              </a:solidFill>
              <a:latin typeface="Arial"/>
            </a:endParaRPr>
          </a:p>
        </p:txBody>
      </p:sp>
      <p:sp>
        <p:nvSpPr>
          <p:cNvPr id="21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e December 1</a:t>
            </a:r>
            <a:r>
              <a:rPr b="0" lang="en-US" sz="2100" spc="-1" strike="noStrike" baseline="30000">
                <a:solidFill>
                  <a:srgbClr val="000000"/>
                </a:solidFill>
                <a:latin typeface="Arial"/>
              </a:rPr>
              <a:t>st</a:t>
            </a:r>
            <a:r>
              <a:rPr b="0" lang="en-US" sz="2100" spc="-1" strike="noStrike">
                <a:solidFill>
                  <a:srgbClr val="000000"/>
                </a:solidFill>
                <a:latin typeface="Arial"/>
              </a:rPr>
              <a:t>  </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Update Goals</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sed on 7 key areas of Program Improvement</a:t>
            </a:r>
            <a:endParaRPr b="0" lang="en-US" sz="21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engaged</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orous coursework</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working cooperativel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involved in career guidance</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ment enhances student learning</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istic program improvement plan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7B91FCF-457E-4A3E-9107-12AC6D40B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Visits</a:t>
            </a:r>
            <a:endParaRPr b="1" lang="en-US" sz="3500" spc="-1" strike="noStrike">
              <a:solidFill>
                <a:srgbClr val="330066"/>
              </a:solidFill>
              <a:latin typeface="Arial"/>
            </a:endParaRPr>
          </a:p>
        </p:txBody>
      </p:sp>
      <p:sp>
        <p:nvSpPr>
          <p:cNvPr id="213" name="PlaceHolder 2"/>
          <p:cNvSpPr>
            <a:spLocks noGrp="1"/>
          </p:cNvSpPr>
          <p:nvPr>
            <p:ph/>
          </p:nvPr>
        </p:nvSpPr>
        <p:spPr>
          <a:xfrm>
            <a:off x="457200" y="2013120"/>
            <a:ext cx="8229600" cy="41176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gra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eache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Risk Programs (Data/Accountabilit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ients of state/federal fund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ation from local CTE progr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C9D45B7-750C-44CF-B75F-0A8A9CEC4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80520"/>
            <a:ext cx="838224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iteria for Determining On-site Reviews</a:t>
            </a:r>
            <a:endParaRPr b="1" lang="en-US" sz="3500" spc="-1" strike="noStrike">
              <a:solidFill>
                <a:srgbClr val="330066"/>
              </a:solidFill>
              <a:latin typeface="Arial"/>
            </a:endParaRPr>
          </a:p>
        </p:txBody>
      </p:sp>
      <p:sp>
        <p:nvSpPr>
          <p:cNvPr id="215" name="PlaceHolder 2"/>
          <p:cNvSpPr>
            <a:spLocks noGrp="1"/>
          </p:cNvSpPr>
          <p:nvPr>
            <p:ph/>
          </p:nvPr>
        </p:nvSpPr>
        <p:spPr>
          <a:xfrm>
            <a:off x="533520" y="2133720"/>
            <a:ext cx="8229600" cy="411480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ze, scope and quality of program</a:t>
            </a:r>
            <a:endParaRPr b="0" lang="en-US" sz="30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program indicators (Pages 6-8 of Instrument)</a:t>
            </a:r>
            <a:endParaRPr b="0" lang="en-US" sz="26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f Study</a:t>
            </a:r>
            <a:endParaRPr b="0" lang="en-US" sz="26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Results for Performance (Core Indicators)   </a:t>
            </a:r>
            <a:endParaRPr b="0" lang="en-US" sz="30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used for program improvement </a:t>
            </a:r>
            <a:endParaRPr b="0" lang="en-US" sz="3000" spc="-1" strike="noStrike">
              <a:solidFill>
                <a:srgbClr val="000000"/>
              </a:solidFill>
              <a:latin typeface="Arial"/>
            </a:endParaRPr>
          </a:p>
          <a:p>
            <a:pPr lvl="1" marL="12715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8CDCCFE-1E95-48D4-B1CD-B579C98BF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entory Controls</a:t>
            </a:r>
            <a:endParaRPr b="1" lang="en-US" sz="3900" spc="-1" strike="noStrike">
              <a:solidFill>
                <a:srgbClr val="330066"/>
              </a:solidFill>
              <a:latin typeface="Arial"/>
            </a:endParaRPr>
          </a:p>
        </p:txBody>
      </p:sp>
      <p:sp>
        <p:nvSpPr>
          <p:cNvPr id="217"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equipment records maintained by the local district or consorti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quate internal controls to account for location and custod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ular physical inventor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urchased with Perkins funds clearly marked in recipients’ invent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kins-purchased equipment marked with a sticker, tag, or other unique identifi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TE no longer maintains equipment inventor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3484AC7-C2A0-4C06-A997-F8BB87AAA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440"/>
            <a:ext cx="739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at Now?</a:t>
            </a:r>
            <a:endParaRPr b="1" lang="en-US" sz="3500" spc="-1" strike="noStrike">
              <a:solidFill>
                <a:srgbClr val="330066"/>
              </a:solidFill>
              <a:latin typeface="Arial"/>
            </a:endParaRPr>
          </a:p>
        </p:txBody>
      </p:sp>
      <p:sp>
        <p:nvSpPr>
          <p:cNvPr id="219" name="PlaceHolder 2"/>
          <p:cNvSpPr>
            <a:spLocks noGrp="1"/>
          </p:cNvSpPr>
          <p:nvPr>
            <p:ph/>
          </p:nvPr>
        </p:nvSpPr>
        <p:spPr>
          <a:xfrm>
            <a:off x="456840" y="2057040"/>
            <a:ext cx="8458200" cy="43434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yze your Perkin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IP Instrument-December 1, 2010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Cluster Specialist with new budget request ideas then your consortium direct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ved program application–March 1, 201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Collection workshops/webinar April 201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uster Upda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C98C8A1-D392-4A3B-9233-1A438835D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pproved Program and Perkins </a:t>
            </a:r>
            <a:br>
              <a:rPr sz="3500"/>
            </a:br>
            <a:r>
              <a:rPr b="1" lang="en-US" sz="3500" spc="-1" strike="noStrike">
                <a:solidFill>
                  <a:srgbClr val="330066"/>
                </a:solidFill>
                <a:latin typeface="Arial"/>
              </a:rPr>
              <a:t>Update Agenda</a:t>
            </a:r>
            <a:endParaRPr b="1" lang="en-US" sz="3500" spc="-1" strike="noStrike">
              <a:solidFill>
                <a:srgbClr val="330066"/>
              </a:solidFill>
              <a:latin typeface="Arial"/>
            </a:endParaRPr>
          </a:p>
        </p:txBody>
      </p:sp>
      <p:sp>
        <p:nvSpPr>
          <p:cNvPr id="162" name="PlaceHolder 2"/>
          <p:cNvSpPr>
            <a:spLocks noGrp="1"/>
          </p:cNvSpPr>
          <p:nvPr>
            <p:ph/>
          </p:nvPr>
        </p:nvSpPr>
        <p:spPr>
          <a:xfrm>
            <a:off x="456840" y="1752120"/>
            <a:ext cx="8458200" cy="4800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ved program requiremen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dget requests and amend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progress repor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 visitation 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 Updates &amp; Ques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9D6D136-12F9-458A-8864-1CCE77F5417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cu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eer Clusters</a:t>
            </a:r>
            <a:endParaRPr b="0" lang="en-US" sz="25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way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of your current content to core standard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E to Core Content</a:t>
            </a:r>
            <a:endParaRPr b="0" lang="en-US" sz="22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ng program improvement to:</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ocal program approval application and local five-year plan</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Core Indicators of Performance (accountability data)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budget requests</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monitoring (Program Improvement Process - PIP)</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A1CEEDA-3D22-4AB7-BCD7-4A3D977E6A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Program Improvement Process participation</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programs must participate in sessions at CTE conference, Program Enhancement Workshop, or via webinar.  Non participation will result in program disapproval in the 2011-2012 school year.</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59648603-6230-4626-AFBA-1AEED442E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Enhancement Workshops</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mandatory, held every three years at regional locations</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ical assistance to develop syllabi</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ilds on Standards Implementation workshops</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portunity to explore program improvement goals and strategies</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9A56D7D2-4AD7-45B9-94CC-C854FB09B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labi</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who have finalized standards will be submitting syllabi with the 2011-2011 approved program application.</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Submitting Syllabi 2011</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NR, Architecture &amp; Construction, Education &amp; Training, Health Science, Human Services, Business, Management &amp; Administration, Finance, and Marketing.</a:t>
            </a:r>
            <a:endParaRPr b="0" lang="en-US" sz="20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Submitting Syllabi 2012 </a:t>
            </a:r>
            <a:endParaRPr b="0" lang="en-US" sz="24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spitality &amp; Tourism, Arts, A/V Technology &amp; Communication, STEM, and Transportation, Distribution &amp; Logistic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1A37DD1B-BE90-4F9A-AA59-765A21DC5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roved Program/ Application Requirements</a:t>
            </a:r>
            <a:endParaRPr b="1" lang="en-US" sz="3900" spc="-1" strike="noStrike">
              <a:solidFill>
                <a:srgbClr val="330066"/>
              </a:solidFill>
              <a:latin typeface="Arial"/>
            </a:endParaRPr>
          </a:p>
        </p:txBody>
      </p:sp>
      <p:sp>
        <p:nvSpPr>
          <p:cNvPr id="172"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Program of Study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tified teach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 development pla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isory committe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 Improvement Proces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Core Indicators of Performance and enrollment dat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e March 1</a:t>
            </a:r>
            <a:r>
              <a:rPr b="0" lang="en-US" sz="3000" spc="-1" strike="noStrike" baseline="30000">
                <a:solidFill>
                  <a:srgbClr val="000000"/>
                </a:solidFill>
                <a:latin typeface="Arial"/>
              </a:rPr>
              <a:t>s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s:  </a:t>
            </a:r>
            <a:r>
              <a:rPr b="0" lang="en-US" sz="3000" spc="-1" strike="noStrike" u="sng">
                <a:solidFill>
                  <a:srgbClr val="7e9ce8"/>
                </a:solidFill>
                <a:uFillTx/>
                <a:latin typeface="Arial"/>
                <a:hlinkClick r:id="rId1"/>
              </a:rPr>
              <a:t>www.doe.sd.gov</a:t>
            </a:r>
            <a:r>
              <a:rPr b="0" lang="en-US" sz="3000" spc="-1" strike="noStrike" u="sng">
                <a:solidFill>
                  <a:srgbClr val="000000"/>
                </a:solidFill>
                <a:uFillTx/>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BD6C1FF-E1D3-404D-A767-94CFB75A5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533520" y="1295280"/>
            <a:ext cx="7772400" cy="8556840"/>
            <a:chOff x="533520" y="1295280"/>
            <a:chExt cx="7772400" cy="8556840"/>
          </a:xfrm>
        </p:grpSpPr>
        <p:sp>
          <p:nvSpPr>
            <p:cNvPr id="174" name=""/>
            <p:cNvSpPr/>
            <p:nvPr/>
          </p:nvSpPr>
          <p:spPr>
            <a:xfrm>
              <a:off x="1067400" y="1295280"/>
              <a:ext cx="6764040" cy="126828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Approved Progra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Tahoma"/>
                </a:rPr>
                <a:t>Two Credit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1304640" y="3047760"/>
              <a:ext cx="617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46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3766320"/>
              <a:ext cx="1542600" cy="75744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Foundational CTE</a:t>
              </a:r>
              <a:endParaRPr b="0" lang="en-US" sz="1500" spc="-1" strike="noStrike">
                <a:solidFill>
                  <a:srgbClr val="000000"/>
                </a:solidFill>
                <a:latin typeface="Arial"/>
              </a:endParaRPr>
            </a:p>
          </p:txBody>
        </p:sp>
        <p:sp>
          <p:nvSpPr>
            <p:cNvPr id="178" name=""/>
            <p:cNvSpPr/>
            <p:nvPr/>
          </p:nvSpPr>
          <p:spPr>
            <a:xfrm>
              <a:off x="5457960" y="3766320"/>
              <a:ext cx="13050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cademic</a:t>
              </a:r>
              <a:endParaRPr b="0" lang="en-US" sz="1800" spc="-1" strike="noStrike">
                <a:solidFill>
                  <a:srgbClr val="000000"/>
                </a:solidFill>
                <a:latin typeface="Arial"/>
              </a:endParaRPr>
            </a:p>
          </p:txBody>
        </p:sp>
        <p:sp>
          <p:nvSpPr>
            <p:cNvPr id="179" name=""/>
            <p:cNvSpPr/>
            <p:nvPr/>
          </p:nvSpPr>
          <p:spPr>
            <a:xfrm>
              <a:off x="6882120" y="376632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apstone</a:t>
              </a:r>
              <a:endParaRPr b="0" lang="en-US" sz="1800" spc="-1" strike="noStrike">
                <a:solidFill>
                  <a:srgbClr val="000000"/>
                </a:solidFill>
                <a:latin typeface="Arial"/>
              </a:endParaRPr>
            </a:p>
          </p:txBody>
        </p:sp>
        <p:sp>
          <p:nvSpPr>
            <p:cNvPr id="180" name=""/>
            <p:cNvSpPr/>
            <p:nvPr/>
          </p:nvSpPr>
          <p:spPr>
            <a:xfrm>
              <a:off x="3707280" y="3774600"/>
              <a:ext cx="1648440" cy="57636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Career Cluster Pathway</a:t>
              </a:r>
              <a:endParaRPr b="0" lang="en-US" sz="1500" spc="-1" strike="noStrike">
                <a:solidFill>
                  <a:srgbClr val="000000"/>
                </a:solidFill>
                <a:latin typeface="Arial"/>
              </a:endParaRPr>
            </a:p>
          </p:txBody>
        </p:sp>
        <p:sp>
          <p:nvSpPr>
            <p:cNvPr id="181" name=""/>
            <p:cNvSpPr/>
            <p:nvPr/>
          </p:nvSpPr>
          <p:spPr>
            <a:xfrm>
              <a:off x="2253960" y="3766320"/>
              <a:ext cx="1305000" cy="58464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Career Cluster</a:t>
              </a:r>
              <a:endParaRPr b="0" lang="en-US" sz="1600" spc="-1" strike="noStrike">
                <a:solidFill>
                  <a:srgbClr val="000000"/>
                </a:solidFill>
                <a:latin typeface="Arial"/>
              </a:endParaRPr>
            </a:p>
          </p:txBody>
        </p:sp>
        <p:sp>
          <p:nvSpPr>
            <p:cNvPr id="182" name=""/>
            <p:cNvSpPr/>
            <p:nvPr/>
          </p:nvSpPr>
          <p:spPr>
            <a:xfrm>
              <a:off x="29660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49320" y="3025080"/>
              <a:ext cx="0" cy="74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512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7540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22440" y="479304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87" name=""/>
            <p:cNvSpPr/>
            <p:nvPr/>
          </p:nvSpPr>
          <p:spPr>
            <a:xfrm flipH="1">
              <a:off x="1304640" y="4524120"/>
              <a:ext cx="5760" cy="26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28800" y="4783680"/>
              <a:ext cx="2135880" cy="31680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1 – 2+ Credits</a:t>
              </a:r>
              <a:endParaRPr b="0" lang="en-US" sz="1800" spc="-1" strike="noStrike">
                <a:solidFill>
                  <a:srgbClr val="000000"/>
                </a:solidFill>
                <a:latin typeface="Arial"/>
              </a:endParaRPr>
            </a:p>
          </p:txBody>
        </p:sp>
        <p:sp>
          <p:nvSpPr>
            <p:cNvPr id="189" name=""/>
            <p:cNvSpPr/>
            <p:nvPr/>
          </p:nvSpPr>
          <p:spPr>
            <a:xfrm>
              <a:off x="5326560" y="4793040"/>
              <a:ext cx="131796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90" name=""/>
            <p:cNvSpPr/>
            <p:nvPr/>
          </p:nvSpPr>
          <p:spPr>
            <a:xfrm>
              <a:off x="605124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4932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8888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63320" y="4793040"/>
              <a:ext cx="15426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5 - 1 Credit</a:t>
              </a:r>
              <a:endParaRPr b="0" lang="en-US" sz="1600" spc="-1" strike="noStrike">
                <a:solidFill>
                  <a:srgbClr val="000000"/>
                </a:solidFill>
                <a:latin typeface="Arial"/>
              </a:endParaRPr>
            </a:p>
          </p:txBody>
        </p:sp>
        <p:sp>
          <p:nvSpPr>
            <p:cNvPr id="194" name=""/>
            <p:cNvSpPr/>
            <p:nvPr/>
          </p:nvSpPr>
          <p:spPr>
            <a:xfrm>
              <a:off x="748152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760" y="5331600"/>
              <a:ext cx="1554480" cy="28800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62760" y="5850360"/>
              <a:ext cx="7513560" cy="400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Arial"/>
              </a:endParaRPr>
            </a:p>
          </p:txBody>
        </p:sp>
        <p:sp>
          <p:nvSpPr>
            <p:cNvPr id="197" name=""/>
            <p:cNvSpPr/>
            <p:nvPr/>
          </p:nvSpPr>
          <p:spPr>
            <a:xfrm>
              <a:off x="4549320" y="2563560"/>
              <a:ext cx="0" cy="46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AA19363E-822A-4AC5-87E8-0F841108EA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ignment Codes</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 communicate codes to your school both for the Personnel Record Form and Infinite Campu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ment codes will begin appearing in Infinite Campus for student transcripts May 2011.</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your Infinite Campus Point of Contact indentifies CTE courses by putting “CTE” in the course title on student transcrip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A7DC41C-7ACC-49A1-9585-12A6649D55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8:06Z</dcterms:created>
  <dc:creator>depr14527</dc:creator>
  <dc:description/>
  <dc:language>en-US</dc:language>
  <cp:lastModifiedBy>depr14726</cp:lastModifiedBy>
  <dcterms:modified xsi:type="dcterms:W3CDTF">2010-07-27T20:36:40Z</dcterms:modified>
  <cp:revision>132</cp:revision>
  <dc:subject/>
  <dc:title>Slide 1</dc:title>
</cp:coreProperties>
</file>